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003-44FB-4B8D-AA16-90EB13C0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C42-57B6-4153-8169-0D7734C8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1BC-CD9D-4463-AA7B-E27AD96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7D2-ADCB-40DC-AC53-9583BA0C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3444-2ED1-4869-B70F-DD00F711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49E3-A7FC-4ADE-8152-B2E60D5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007E-380B-4BB6-8F49-8FDA6EE3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EF3A-918D-4F7A-95C4-9375BB6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2A74-0403-4FB7-AAB7-05B9AA6E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DDF2-0B01-40F8-861B-3674718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0BD-1A14-4AD8-9747-F90AF1C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E9F-C2DC-4F62-AA76-D021B4B9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8912-3CD0-4B9E-BECE-98E91BF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D56-FD9F-48F5-877A-18ABA59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2B6B-95B0-406F-97AE-A7C093B0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608-3229-46A7-BFB6-64F5123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97F-19A5-4F46-9537-17ED8E63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650-D854-4E11-83B2-10710A71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927-B6D6-4DCB-838F-461DA79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CF4-9395-4F48-BB55-0596F37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12B-89C2-44C8-A2EE-CA1FE019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D9B-1FAF-45B5-9C94-EF83C60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10E-13E7-4367-AFF7-BA75C78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3B7-998D-4923-B380-50165AA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31D2-B7BA-41F5-9709-040895CFD0A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AE2-9E95-4E97-9E78-04CB06FF077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systems and Ener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ular Respir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ganic molecules (glucose) are broken down to release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in the presence of water and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6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6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6C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12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nergy FLOW in an 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ters as solar energy (su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otosynthesis (plant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ored energy (organic molecul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me lost to environment (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Law of thermodynamic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les in an eco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ducers/Autotroph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umers/Heterotrop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m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erbivores (omnivore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rnivores (omnivor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rtiary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tritus Feeder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omposers/Saprotroph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ood cha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52880" y="11430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ways line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mplistic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ood Web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934320" cy="519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86400" y="1066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re complex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ical Pyram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2101680"/>
            <a:ext cx="5790960" cy="4756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43240" y="21016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hows relative energy values in each trophic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10% ru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numb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more producers than consum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prey than preda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BluegrassPyramid" descr=""/>
          <p:cNvPicPr/>
          <p:nvPr/>
        </p:nvPicPr>
        <p:blipFill>
          <a:blip r:embed="rId1"/>
          <a:stretch/>
        </p:blipFill>
        <p:spPr>
          <a:xfrm>
            <a:off x="1066680" y="3241800"/>
            <a:ext cx="38102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Bioma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iomas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Quantitative estimate of total mass of living mater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in units (g/m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3249720"/>
            <a:ext cx="38102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yramid of ener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content (kcal/m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/year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ever 10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10% Ru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sually not more than 4 or 5 trophic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ivity of Produc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Gross Primary Productivit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(GPP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that is captured during photosynthes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t Primary Productivit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(NPP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that remains in a plant after respir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PP = GPP – Respir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interactions of organisms and their living and non-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ny different scales to ecolo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biotic factor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Non-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 Wind, soil, precipit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iotic factor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Living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ample:  all organisms (plants, peopl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ductivity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ts :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fixed by photosynthe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ams of carbon in tiss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productive ecosystem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nfore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etlands, swamps, marsh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st unproductive ecosystem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undra, deser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pen oce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NPP for a particular river ecosystem is measured at 8833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.  Respiration by the aquatic producers is estimated at 11,977 kcal/m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year.  Calculate the GPP for the ecosystem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962520"/>
            <a:ext cx="5235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PP = GPP – 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8833 = GPP – 11,9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PP = 8,833 + 11,97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PP = 20,810 kcal/m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/ye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ny living th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Specie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Group of organisms who interbreed and produce fertile off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 group of organisms in the same species that live in the same area at the sam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in the same area, at the same time that intera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Ecosyste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 community together with its physical enviro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andscap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everal interacting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Biosphere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– All living organisms on Ea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Ec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iospher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ll living organisms on Ear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Hydr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All of Earth’s water supp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tm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Gases that surround the Ear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– Soil and rock of Earth’s cru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cology encompasses the study of the interrelationships among Earth’s biosphere, hydrosphere, atmosphere and lith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nergy – ability to do wor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is the capacity to do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easured in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kJ (work)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kcal (heat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cal = raise 1kg water 1 degree = 4.184 k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fferent forms of ener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ectrical, chemical, solar, mechanical, nuclear, therm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tential vs. Kinetic energy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pen system –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osed system -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rst Law of 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ergy cannot be created or destroyed.  It can be transferred from one form to ano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organism cannot create the energy that it requires to l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pon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uma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econd Law of Thermodynam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henever energy is converted from one form to another, some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sable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ergy is lost in thermal energy that disperses into the enviro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tropy – Measure of disorder or randomn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tropy tends to increase over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energy conversion process is 10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-3960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rs = 20-3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-3960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ells = 50% effici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-3974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der is maintained through constant energy inp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893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ight energy from the sun is converted to chemical energy carbohydrates (gluco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s photosynthetic pigments (chlorophyl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6C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 12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sun </a:t>
            </a: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C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+ 6H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 + 6O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7:07:03Z</dcterms:created>
  <dc:creator>Pace Academy</dc:creator>
  <dc:description/>
  <dc:language>en-US</dc:language>
  <cp:lastModifiedBy>Pace Academy</cp:lastModifiedBy>
  <dcterms:modified xsi:type="dcterms:W3CDTF">2007-08-27T13:26:08Z</dcterms:modified>
  <cp:revision>13</cp:revision>
  <dc:subject/>
  <dc:title>Ecosystems and Energy</dc:title>
</cp:coreProperties>
</file>